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FED-5880-4F3B-A17A-D6751044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2F8-CCC2-40CF-B462-18D33405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9BE-61A6-42F7-BC0B-F298ABED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06C-FDE6-485B-ADD0-14961BEA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8163-B5CE-4ECA-A83C-6E667DC5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68C1-D105-41F9-A96A-3F03734E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8FA6-8502-4E80-BAEC-36AF7CC9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0F53-C2F7-4D5D-B9AD-62F09939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12CE-8C48-44CF-8073-115C600F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730D-1EAF-4378-8FAB-6597C4E5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356D-C108-4905-9AA6-C7A52069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685-C9FB-4E9E-9DEC-81CEB48B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B72A-712D-4DAD-9446-77069645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A7AE-1241-4CC1-8459-A1BBA84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47CE-FA2C-4F09-8A6C-C189818E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CEE1-DD1C-4775-A312-92F788FC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DDDA-7007-4115-9B26-D78C7D29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14F-861A-4087-9A2F-E41E63B6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DFA-0218-4EB0-BA82-8455D26E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D5D-FE35-43DA-BD24-E4DD78BC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E21-AF3E-47D0-8B37-6FD0602C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0CF-4472-429F-BFD2-1A16CB1C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970-A8AE-41FB-BA07-8D11FDB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937-C33D-410B-A566-58F8AFD0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C8AC-7C1C-43CE-98A4-055E101AA14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7002-5F4C-4CF6-A254-632C190A76A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microsoft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../../../Publications/Journals/Journals Listing.doc" TargetMode="External"/><Relationship Id="rId2" Type="http://schemas.openxmlformats.org/officeDocument/2006/relationships/hyperlink" Target="../../../Publications/Journals/Target Journals and Articles to be Reviewed.doc" TargetMode="External"/><Relationship Id="rId3" Type="http://schemas.openxmlformats.org/officeDocument/2006/relationships/hyperlink" Target="../../../Publications/Journals/Journal of Technology Education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A Good Research Thesis Framework.pdf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../Paper Review/121.pd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ow to Start the Research.pd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ow to Start the Research.pdf" TargetMode="External"/><Relationship Id="rId2" Type="http://schemas.openxmlformats.org/officeDocument/2006/relationships/hyperlink" Target="Instuction to Select a Researh Topic.pdf" TargetMode="External"/><Relationship Id="rId3" Type="http://schemas.openxmlformats.org/officeDocument/2006/relationships/hyperlink" Target="Research Guide.pdf" TargetMode="External"/><Relationship Id="rId4" Type="http://schemas.openxmlformats.org/officeDocument/2006/relationships/hyperlink" Target="Web Guide to Start Searching for Research Topics.pdf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Research Method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nda Ganesan, Ph.D.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fessor of Information System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lifornia State University, Los Angel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Topic Orient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ust be differentiated from development of app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Extensive survey of literature on a topic and its application to a local scenario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Notes on Research Topic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ote that all research need not be 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 with new ideas are also widely accept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search with extensive literature survey on a topic and its expansion to provide incremental addition to knowledgebase may also be consider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Undergraduate Project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Extensive literature survey based project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Using the Areas of Strength to Select a Topic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e actual selection must now be determined by the areas of strength of the candidate along with the area of interest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Database desig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Network applications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trength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nalytica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pplied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Literature comprehensio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Following the in-house research pattern may not be the best choi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Eg: MySQL and php based application development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Venture into other areas as well 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mportance of Literature Survey in Finalizing the Research Topic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n extensive literature survey is important to fine tune the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nitial Identification of Emerging Area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nternet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gazine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Will provide an indication about emerging area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Visit the nearest computer book stor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r search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ttp://www.amazon.com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Book Antiqu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trade magazines and trade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industry websit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http://www.Microsoft.com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rade publication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academic pub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bstrac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Abstrac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lge Search is a good starting poin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Key words are everything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ake copies of all the important documents with an abstract stored separatel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hortlist the possible topics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More Specific 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cholarly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ccess associations in the field for more information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cholarly Journal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dentify journals in the fiel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List of journal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rrow down to target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Target journal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journal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Journal of Technology Educ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Purpos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utline the steps that may be followed to select and conduct a final year applied or research projec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vide suggestions on an approach to write the project report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ssociations in the Fiel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tance Education Associ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information about the journals published by the associ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dentifying Journals in the Field: Library Searche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brary database search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ric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ther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panding on the journal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information on additional journal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oop back to Google search with the new inform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Expanding the Literature Survey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is that one article that can expand the literature ba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additional names of journals and topics from the references of the most relevant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ny a times, it would be one group of authors who will be talking about a particular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o more search based on the author’s na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urrent Work-in Progr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information on current work in progress that may contain bits of pieces of different papers or chapt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copies of all the referenc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Search Proc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Engin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Basic and advanced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ther search engin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oogle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eneral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dvanced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dvance search operator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terate between Google search and the search of other material such as journal searches etc.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, if available, can be exceptionally useful in finding related research work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Demonstration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bjectiv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verview of the research proces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ing a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onducting literature surve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odularize the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tart writing under each of the modu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Good starting points are introduction, literature survey, description of the process divided possibly into multiple chapter, presentation of results, discussion, reference to future work and conclusion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Feel free to move from one module to another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t the early stages, the flow of information must be the prime objectiv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ffort to maintain continuity should not hinder the flow of thoughts while initially writing the thesi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tting Starte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the introduction and the literature survey in skeleton for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Have an outline of the thesi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must be in modular form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neral Modular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terature survey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ypotheses and/or experimental background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erimental or Procedural desig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1: Details of experiment and presentations of finding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2: Details of experiment and presentation of findings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ion of finding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Conclusion and reference to future work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st of Reference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ppendix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tarting to Write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e the chapters into sub-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under each module as the thoughts flow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o not focus on continuity or grammar at this tim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clude additional sections and/or remove current sections as appropria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ome Writing Techniqu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eave writing when writing block occu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fore ending a writing session make short notes on the next session to sta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nk about the topic the night before the day of writing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rnings are the best time to wri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fin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stablish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Do additional literature survey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ontinue to improve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ive the thesis to be read by a technical and a non-technical person and make changes accordingl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eave a gap of time before the final reading and editing of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erform final editing and submit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Important Consider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lways be nice to the superviso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research teaches you more than scientific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extols the virtue of human relationship, patience etc.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Sample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Research Pape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amples of Local Pap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 will be provided that follows the suggested outline, in genera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Career advise expert syste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Proc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Final Sugges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would help in applying the theory learned in the cours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has some practical valu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 a topic that would be of interest to others as wel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Before Starting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down all the idea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btain and retain copies of all related material obtained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all the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arry a flash drive for the purpo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cus on selecting a good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Overview of Research Proces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a general idea of the research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ad scholarly papers to refine and define the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dentify the research community currently involved in research under the same topic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 ideas with colleague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and the research theme and write an initial outline paper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vise the paper and define clearly the research the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mplement the chosen research the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Referen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Repor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view of sample repor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ing the 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itial writing of repo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echniqu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fining the repo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Some Resources for Getting Started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f one is new, do a Google search for articles on how to start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: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ow to start th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Instruction to select a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Research guid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4"/>
              </a:rPr>
              <a:t>Web guide to start searching for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ploring a Research Topic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3:28:09Z</dcterms:created>
  <dc:creator>kumar</dc:creator>
  <dc:description/>
  <dc:language>en-US</dc:language>
  <cp:lastModifiedBy>Teacher WD Shuttle</cp:lastModifiedBy>
  <dcterms:modified xsi:type="dcterms:W3CDTF">2006-09-11T21:47:01Z</dcterms:modified>
  <cp:revision>42</cp:revision>
  <dc:subject/>
  <dc:title>Conducting Resear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